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BCF8-10A1-4421-AA3D-2C8A84779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F188-8D5A-4FCC-9B35-7D225046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2C5F-2990-4756-8EE6-7EAC8BB74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64E2-9AC9-4C49-B26F-7311CF3A0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21EB-5990-4F7E-A70C-DB39DCC3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F3D4-6359-4667-8CFA-D9C1F297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B3D4-2B90-44A1-B496-ECA035BE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42F0-33FB-4A45-B5CB-7DCC74EB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F50D-54D5-48D1-98F7-F0FC3E81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1200-FEB5-4A16-B415-82420A5C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6EE4-17F7-441F-9525-B1DE3D3C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A5CC-9FF6-4AB0-943F-85A85AD4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FAFE-5BB6-40C1-B64D-3DD0860E6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1.PANONSKO – </a:t>
            </a:r>
            <a:br>
              <a:rPr sz="4400"/>
            </a:b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  PERIPANONSKI PROS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Cf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siječanj- -2-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°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srpanj- 18-2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°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kontinental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temperatur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inverzije (ZIMI)</a:t>
            </a:r>
            <a:r>
              <a:rPr b="0" lang="hr-HR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česte ma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600-1200 mm padal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14:13:48Z</dcterms:created>
  <dc:creator>Bozo</dc:creator>
  <dc:description/>
  <dc:language>en-US</dc:language>
  <cp:lastModifiedBy>Bozo</cp:lastModifiedBy>
  <dcterms:modified xsi:type="dcterms:W3CDTF">2004-12-10T14:13:57Z</dcterms:modified>
  <cp:revision>1</cp:revision>
  <dc:subject/>
  <dc:title>1.PANONSKO –    PERIPANONSKI PROSTOR</dc:title>
</cp:coreProperties>
</file>